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4DF3-5B84-40EC-840A-E0EA28DCC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EB3F-1DFD-4893-A69C-6BE6C336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35E8-9DD2-4076-B299-D267CBAFE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BD23-3FF3-4359-BA83-9B51E7366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92D7-4D07-4C6B-BC42-43F2A3F4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4B41-789D-4611-A106-7970D210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2351-B9F2-4A76-BB6C-26AE9784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D81E-41A1-4067-AB47-FEA4075F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8333-B953-44F8-81C7-5822A342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AD54-0AC4-4DAD-9E0D-06CD964E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7719-D2FF-4401-9FB5-0415F382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F0DE-9E4E-4F3C-AD33-F50623C8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D880-5404-49D6-8D1F-E7330B615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596" t="712" r="0" b="0"/>
          <a:stretch/>
        </p:blipFill>
        <p:spPr>
          <a:xfrm>
            <a:off x="487440" y="561960"/>
            <a:ext cx="8219880" cy="5776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05520" y="3886200"/>
            <a:ext cx="9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1220" r="0" b="0"/>
          <a:stretch/>
        </p:blipFill>
        <p:spPr>
          <a:xfrm>
            <a:off x="411120" y="579600"/>
            <a:ext cx="8321760" cy="5771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9680" y="137160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r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940" t="1084" r="0" b="0"/>
          <a:stretch/>
        </p:blipFill>
        <p:spPr>
          <a:xfrm>
            <a:off x="515880" y="571680"/>
            <a:ext cx="8191440" cy="5779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90720" y="243828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945" t="991" r="945" b="0"/>
          <a:stretch/>
        </p:blipFill>
        <p:spPr>
          <a:xfrm>
            <a:off x="534960" y="596880"/>
            <a:ext cx="8074080" cy="5721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14400" y="243828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and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946" t="496" r="0" b="634"/>
          <a:stretch/>
        </p:blipFill>
        <p:spPr>
          <a:xfrm>
            <a:off x="541440" y="588960"/>
            <a:ext cx="8138880" cy="5673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66680" y="236232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abbi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1019" t="0" r="0" b="0"/>
          <a:stretch/>
        </p:blipFill>
        <p:spPr>
          <a:xfrm>
            <a:off x="522360" y="533520"/>
            <a:ext cx="8184960" cy="57909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90720" y="236232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engu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1154" t="1089" r="0" b="0"/>
          <a:stretch/>
        </p:blipFill>
        <p:spPr>
          <a:xfrm>
            <a:off x="533520" y="584280"/>
            <a:ext cx="8173800" cy="5754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90720" y="2438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uc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771" t="988" r="0" b="876"/>
          <a:stretch/>
        </p:blipFill>
        <p:spPr>
          <a:xfrm>
            <a:off x="527040" y="590400"/>
            <a:ext cx="8153280" cy="5683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14400" y="228600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ro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774" t="995" r="0" b="0"/>
          <a:stretch/>
        </p:blipFill>
        <p:spPr>
          <a:xfrm>
            <a:off x="520560" y="611280"/>
            <a:ext cx="8166240" cy="5694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66680" y="266688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e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771" t="414" r="0" b="0"/>
          <a:stretch/>
        </p:blipFill>
        <p:spPr>
          <a:xfrm>
            <a:off x="527040" y="584280"/>
            <a:ext cx="815328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8080" y="274320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ame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776" t="885" r="953" b="0"/>
          <a:stretch/>
        </p:blipFill>
        <p:spPr>
          <a:xfrm>
            <a:off x="554040" y="611280"/>
            <a:ext cx="8021520" cy="568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14400" y="24382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w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946" t="991" r="0" b="0"/>
          <a:stretch/>
        </p:blipFill>
        <p:spPr>
          <a:xfrm>
            <a:off x="541440" y="596880"/>
            <a:ext cx="8138880" cy="5721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90720" y="457200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is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493" r="0" b="0"/>
          <a:stretch/>
        </p:blipFill>
        <p:spPr>
          <a:xfrm>
            <a:off x="490680" y="576360"/>
            <a:ext cx="8162640" cy="5735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14400" y="464832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urt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771" t="993" r="0" b="0"/>
          <a:stretch/>
        </p:blipFill>
        <p:spPr>
          <a:xfrm>
            <a:off x="527040" y="604800"/>
            <a:ext cx="8153280" cy="5707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14400" y="533412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lepha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771" t="743" r="0" b="0"/>
          <a:stretch/>
        </p:blipFill>
        <p:spPr>
          <a:xfrm>
            <a:off x="527040" y="590400"/>
            <a:ext cx="8153280" cy="5721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90720" y="266688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orill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596" t="1231" r="0" b="0"/>
          <a:stretch/>
        </p:blipFill>
        <p:spPr>
          <a:xfrm>
            <a:off x="487440" y="592200"/>
            <a:ext cx="8219880" cy="5746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14600" y="114300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ipp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5T08:52:21Z</dcterms:created>
  <dc:creator>User</dc:creator>
  <dc:description/>
  <dc:language>en-US</dc:language>
  <cp:lastModifiedBy> </cp:lastModifiedBy>
  <dcterms:modified xsi:type="dcterms:W3CDTF">2009-02-25T11:52:13Z</dcterms:modified>
  <cp:revision>3</cp:revision>
  <dc:subject/>
  <dc:title>Slide 1</dc:title>
</cp:coreProperties>
</file>